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38.png" ContentType="image/png"/>
  <Override PartName="/ppt/media/image12.wmf" ContentType="image/x-wmf"/>
  <Override PartName="/ppt/media/image5.png" ContentType="image/png"/>
  <Override PartName="/ppt/media/image13.wmf" ContentType="image/x-wmf"/>
  <Override PartName="/ppt/media/image4.png" ContentType="image/png"/>
  <Override PartName="/ppt/media/image34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5.wmf" ContentType="image/x-wmf"/>
  <Override PartName="/ppt/media/image36.png" ContentType="image/png"/>
  <Override PartName="/ppt/media/image9.wmf" ContentType="image/x-wmf"/>
  <Override PartName="/ppt/media/image39.png" ContentType="image/png"/>
  <Override PartName="/ppt/media/image41.jpeg" ContentType="image/jpeg"/>
  <Override PartName="/ppt/media/image40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6.wmf" ContentType="image/x-wmf"/>
  <Override PartName="/ppt/media/image32.png" ContentType="image/png"/>
  <Override PartName="/ppt/media/image2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IMS_FOOTER_LEFT"/>
          <p:cNvSpPr/>
          <p:nvPr/>
        </p:nvSpPr>
        <p:spPr>
          <a:xfrm>
            <a:off x="225360" y="632304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2b2b2"/>
                </a:solidFill>
                <a:latin typeface="Arial"/>
              </a:rPr>
              <a:t>Advanced Petrol Engine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54960"/>
            <a:ext cx="9144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654960"/>
            <a:ext cx="90676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IMS_FOOTER_CENTER"/>
          <p:cNvSpPr/>
          <p:nvPr/>
        </p:nvSpPr>
        <p:spPr>
          <a:xfrm>
            <a:off x="3547800" y="6438960"/>
            <a:ext cx="20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Mazda Motor Europe GmbH, Technical Trai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Mazda Proprietary, 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54960"/>
            <a:ext cx="9144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654960"/>
            <a:ext cx="90676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b2b2b2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n-board Diagnostic System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uration: 2 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ical Fa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5742000" cy="4867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itoring Strategy for Actu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1143000"/>
            <a:ext cx="5486400" cy="488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ical Fa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L3003_02009" descr=""/>
          <p:cNvPicPr/>
          <p:nvPr/>
        </p:nvPicPr>
        <p:blipFill>
          <a:blip r:embed="rId2"/>
          <a:stretch/>
        </p:blipFill>
        <p:spPr>
          <a:xfrm>
            <a:off x="1981080" y="1679400"/>
            <a:ext cx="5486400" cy="3702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uropean On-board Diagnostic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 Approval and Tes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L3003_02010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6553080" cy="4603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66680" y="1676520"/>
            <a:ext cx="6934320" cy="353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88920" y="1600200"/>
            <a:ext cx="701208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isfire Monito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L3003_02030" descr=""/>
          <p:cNvPicPr/>
          <p:nvPr/>
        </p:nvPicPr>
        <p:blipFill>
          <a:blip r:embed="rId2"/>
          <a:stretch/>
        </p:blipFill>
        <p:spPr>
          <a:xfrm>
            <a:off x="990720" y="1450800"/>
            <a:ext cx="7162560" cy="371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2S Monito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L3003_02031" descr=""/>
          <p:cNvPicPr/>
          <p:nvPr/>
        </p:nvPicPr>
        <p:blipFill>
          <a:blip r:embed="rId2"/>
          <a:stretch/>
        </p:blipFill>
        <p:spPr>
          <a:xfrm>
            <a:off x="2649600" y="838080"/>
            <a:ext cx="4135320" cy="5410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WC Monito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L3003_02032" descr=""/>
          <p:cNvPicPr/>
          <p:nvPr/>
        </p:nvPicPr>
        <p:blipFill>
          <a:blip r:embed="rId2"/>
          <a:stretch/>
        </p:blipFill>
        <p:spPr>
          <a:xfrm>
            <a:off x="2336760" y="1173240"/>
            <a:ext cx="4468680" cy="451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board Diagnostic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L3003_02001" descr=""/>
          <p:cNvPicPr/>
          <p:nvPr/>
        </p:nvPicPr>
        <p:blipFill>
          <a:blip r:embed="rId2"/>
          <a:stretch/>
        </p:blipFill>
        <p:spPr>
          <a:xfrm>
            <a:off x="1684440" y="1265400"/>
            <a:ext cx="5775120" cy="432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GR System Monito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L3003_02034" descr=""/>
          <p:cNvPicPr/>
          <p:nvPr/>
        </p:nvPicPr>
        <p:blipFill>
          <a:blip r:embed="rId2"/>
          <a:stretch/>
        </p:blipFill>
        <p:spPr>
          <a:xfrm>
            <a:off x="1295280" y="1589040"/>
            <a:ext cx="6400800" cy="376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 Status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L3003_02024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481800" cy="486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IL Activation and Fault Storag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L3003_02025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478560" cy="486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 Activation after one Drive Cyc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39880" y="1752480"/>
          <a:ext cx="7542000" cy="322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9880" y="1752480"/>
                    <a:ext cx="754200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 Activation after two Drive Cy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14400" y="1676520"/>
          <a:ext cx="7315200" cy="3692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676520"/>
                    <a:ext cx="731520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 Activation after two Drive Cy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14400" y="1676520"/>
          <a:ext cx="7391520" cy="369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676520"/>
                    <a:ext cx="739152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 Activation after three Drive Cy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8080" y="1676520"/>
          <a:ext cx="7467840" cy="3544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76520"/>
                    <a:ext cx="746784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ze Frame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L3003_02026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478560" cy="4863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ze Frame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3880" y="1940040"/>
          <a:ext cx="5791320" cy="290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40040"/>
                    <a:ext cx="579132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tic Monitoring Test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L3003_02027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6478560" cy="486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lfunction Indicator Light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L3003_02002" descr=""/>
          <p:cNvPicPr/>
          <p:nvPr/>
        </p:nvPicPr>
        <p:blipFill>
          <a:blip r:embed="rId2"/>
          <a:stretch/>
        </p:blipFill>
        <p:spPr>
          <a:xfrm>
            <a:off x="2438280" y="1989000"/>
            <a:ext cx="4343400" cy="282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mper Prot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L3003_02028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478560" cy="4863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M Adaptive Memory Learning M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L3003_02017" descr=""/>
          <p:cNvPicPr/>
          <p:nvPr/>
        </p:nvPicPr>
        <p:blipFill>
          <a:blip r:embed="rId2"/>
          <a:stretch/>
        </p:blipFill>
        <p:spPr>
          <a:xfrm>
            <a:off x="2057400" y="1566720"/>
            <a:ext cx="4876920" cy="3843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air Verification Drive M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L3003_02018" descr=""/>
          <p:cNvPicPr/>
          <p:nvPr/>
        </p:nvPicPr>
        <p:blipFill>
          <a:blip r:embed="rId2"/>
          <a:stretch/>
        </p:blipFill>
        <p:spPr>
          <a:xfrm>
            <a:off x="1828800" y="1301760"/>
            <a:ext cx="5410080" cy="431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air Verification Drive M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2013120"/>
          <a:ext cx="6096240" cy="2482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013120"/>
                    <a:ext cx="6096240" cy="24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air Verification Drive M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L3003_02029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478560" cy="486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ercise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ase complete the worksheets 5, 6 and 7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Monitors, Freeze Frame Data and General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uration: 30 m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8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1" lang="en-US" sz="4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gine Mechanical System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uration: 0.5 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ression Press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L3003_02019" descr=""/>
          <p:cNvPicPr/>
          <p:nvPr/>
        </p:nvPicPr>
        <p:blipFill>
          <a:blip r:embed="rId2"/>
          <a:stretch/>
        </p:blipFill>
        <p:spPr>
          <a:xfrm>
            <a:off x="1752480" y="1587600"/>
            <a:ext cx="5715000" cy="363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ve Ti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L3003_02020" descr=""/>
          <p:cNvPicPr/>
          <p:nvPr/>
        </p:nvPicPr>
        <p:blipFill>
          <a:blip r:embed="rId2"/>
          <a:stretch/>
        </p:blipFill>
        <p:spPr>
          <a:xfrm>
            <a:off x="2971800" y="1066680"/>
            <a:ext cx="2890800" cy="495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Link Conne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L3003_02003" descr=""/>
          <p:cNvPicPr/>
          <p:nvPr/>
        </p:nvPicPr>
        <p:blipFill>
          <a:blip r:embed="rId2"/>
          <a:stretch/>
        </p:blipFill>
        <p:spPr>
          <a:xfrm>
            <a:off x="2133720" y="1173240"/>
            <a:ext cx="4647960" cy="20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371600" y="3505320"/>
          <a:ext cx="6324480" cy="233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3505320"/>
                    <a:ext cx="63244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ve Clear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L3003_02021" descr=""/>
          <p:cNvPicPr/>
          <p:nvPr/>
        </p:nvPicPr>
        <p:blipFill>
          <a:blip r:embed="rId2"/>
          <a:stretch/>
        </p:blipFill>
        <p:spPr>
          <a:xfrm>
            <a:off x="2514600" y="1523880"/>
            <a:ext cx="3886200" cy="366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8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1" lang="en-US" sz="4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agnostic Proces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uration: 0.5 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tic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L3003_02022" descr=""/>
          <p:cNvPicPr/>
          <p:nvPr/>
        </p:nvPicPr>
        <p:blipFill>
          <a:blip r:embed="rId2"/>
          <a:stretch/>
        </p:blipFill>
        <p:spPr>
          <a:xfrm>
            <a:off x="2693880" y="1066680"/>
            <a:ext cx="3876840" cy="487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8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1" lang="en-US" sz="4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nish Day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vanced Petrol Engine Managemen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T-L3003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ay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IMS_FOOTER_LEFT"/>
          <p:cNvSpPr/>
          <p:nvPr/>
        </p:nvSpPr>
        <p:spPr>
          <a:xfrm>
            <a:off x="0" y="64152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969696"/>
                </a:solidFill>
                <a:latin typeface="Arial"/>
              </a:rPr>
              <a:t>Auth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969696"/>
                </a:solidFill>
                <a:latin typeface="Arial"/>
              </a:rPr>
              <a:t>Date of orig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83840" y="37800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urse 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ntents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 - Day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8400" y="1168560"/>
            <a:ext cx="8445600" cy="20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Practical Exercises (5.5 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orking on vehicles with Mazda Manifold Injection System and Mazda Direct Injec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Final Test and Course Assessment (0.5 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ercise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ase complete the worksheets 8 to 19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uration: 5.5 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8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1" lang="en-US" sz="4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Link Conne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L3003_02004" descr=""/>
          <p:cNvPicPr/>
          <p:nvPr/>
        </p:nvPicPr>
        <p:blipFill>
          <a:blip r:embed="rId2"/>
          <a:stretch/>
        </p:blipFill>
        <p:spPr>
          <a:xfrm>
            <a:off x="2362320" y="969840"/>
            <a:ext cx="4267080" cy="276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1600200" y="3900600"/>
          <a:ext cx="5943600" cy="2195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900600"/>
                    <a:ext cx="594360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Final Te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3840" y="27306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Please fill in the Final Test Answer She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Mark the correct answers with a cro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o not write on the Question Shee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nly one of the answers is corre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88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uration: 20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Course Assess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3840" y="27306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Please fill in the Course Assess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vanced Petrol Engine Managemen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CT-L3003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tic Trouble Co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666880" y="533520"/>
          <a:ext cx="4665960" cy="576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533520"/>
                    <a:ext cx="466596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TC Stat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L3003_02023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478560" cy="4863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TC Stat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47920" y="1886040"/>
          <a:ext cx="6019560" cy="2224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88604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ult Detection Function – Monitoring Strategy for Sens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67240" cy="34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10:24:46Z</dcterms:created>
  <dc:creator>Csomay</dc:creator>
  <dc:description/>
  <dc:language>en-US</dc:language>
  <cp:lastModifiedBy>rheinlein</cp:lastModifiedBy>
  <dcterms:modified xsi:type="dcterms:W3CDTF">2007-02-22T10:35:38Z</dcterms:modified>
  <cp:revision>420</cp:revision>
  <dc:subject/>
  <dc:title>Master Slide Mazda6</dc:title>
</cp:coreProperties>
</file>